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87D2-36B7-4824-89A5-7D566FA94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14FE-EFE2-4095-B804-CE36FB6A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33D5-B924-472F-A8D8-7C13A3677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C3D3-BF23-4B9B-8246-364E679B9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6ED0-E8FF-4F3D-A07A-3EA72A04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9839-A94E-4759-9421-2E360161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F326-AB27-4356-9FB6-93D06FDF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984E-18A0-4A8A-8FDD-AAC303E9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3FE2-7907-452C-A666-2FB547BB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39DD-C42A-479A-AF5A-C2E44685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6DF3-B521-4F6A-89EF-DA313C07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71A8-2A27-406B-A196-6E584D1C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581D-C6D4-4001-AA35-760206BD1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ing  Presi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raham  Lincol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raham was born in 1809-186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raham was the 16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presid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was shot by John Wilkes Bo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8120" y="5334120"/>
            <a:ext cx="6095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orge was born in 1732-1799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is called the Father of our Count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led the w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did not live in the White Ho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5105520"/>
            <a:ext cx="9144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21:16:38Z</dcterms:created>
  <dc:creator>Carolyn Spielmann</dc:creator>
  <dc:description/>
  <dc:language>en-US</dc:language>
  <cp:lastModifiedBy>Carolyn Spielmann</cp:lastModifiedBy>
  <dcterms:modified xsi:type="dcterms:W3CDTF">2010-02-02T16:41:05Z</dcterms:modified>
  <cp:revision>6</cp:revision>
  <dc:subject/>
  <dc:title>Comparing  Presidents</dc:title>
</cp:coreProperties>
</file>